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7674-ED27-4142-B215-433654C9B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5248-6C6E-4A63-97BC-8B96DF54C4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E93D-DA42-41B4-9D8D-04685A8DA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6AAA600A-97C3-455A-BE72-B5B11A3F9F15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983160"/>
            <a:ext cx="7840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2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Противодействие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1" descr=""/>
          <p:cNvPicPr/>
          <p:nvPr/>
        </p:nvPicPr>
        <p:blipFill>
          <a:blip r:embed="rId1"/>
          <a:stretch/>
        </p:blipFill>
        <p:spPr>
          <a:xfrm>
            <a:off x="352440" y="47628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48" name="Объект 5" descr=""/>
          <p:cNvPicPr/>
          <p:nvPr/>
        </p:nvPicPr>
        <p:blipFill>
          <a:blip r:embed="rId2"/>
          <a:stretch/>
        </p:blipFill>
        <p:spPr>
          <a:xfrm>
            <a:off x="1835280" y="620640"/>
            <a:ext cx="5329080" cy="647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ая соединительная линия 6"/>
          <p:cNvSpPr/>
          <p:nvPr/>
        </p:nvSpPr>
        <p:spPr>
          <a:xfrm>
            <a:off x="-252360" y="134136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840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физических лиц за коррупционные право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90" name="Объект 5" descr=""/>
          <p:cNvPicPr/>
          <p:nvPr/>
        </p:nvPicPr>
        <p:blipFill>
          <a:blip r:embed="rId2"/>
          <a:stretch/>
        </p:blipFill>
        <p:spPr>
          <a:xfrm>
            <a:off x="2738520" y="154080"/>
            <a:ext cx="3666960" cy="3524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ая соединительная линия 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договор может быть расторгнут работодателем, в том числе в следующих случа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ия виновных действий работником, непосредственно обслуживающим денежные или товарные ценности, если эти действия дают основание для утраты доверия к нему со стороны работодателя (пункт 7 части первой статьи 81 ТК Р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840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физических лиц за коррупционные право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95" name="Объект 5" descr=""/>
          <p:cNvPicPr/>
          <p:nvPr/>
        </p:nvPicPr>
        <p:blipFill>
          <a:blip r:embed="rId2"/>
          <a:stretch/>
        </p:blipFill>
        <p:spPr>
          <a:xfrm>
            <a:off x="2738520" y="154080"/>
            <a:ext cx="3666960" cy="352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договор может быть расторгнут работодателем, в том числе в следующих случа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необоснованного решения руководителем организации (филиала, представительства), его заместителями и главным бухгалтером, повлекшего за собой нарушение сохранности имущества, неправомерное его использование или иной ущерб имуществу организации (пункт 9 части первой статьи 81 ТК Р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го грубого нарушения руководителем организации (филиала, представительства), его заместителями своих трудовы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ункт 10 части первой статьи 81 ТК РФ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983160"/>
            <a:ext cx="7840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12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1" descr=""/>
          <p:cNvPicPr/>
          <p:nvPr/>
        </p:nvPicPr>
        <p:blipFill>
          <a:blip r:embed="rId1"/>
          <a:stretch/>
        </p:blipFill>
        <p:spPr>
          <a:xfrm>
            <a:off x="352440" y="47628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101" name="Объект 5" descr=""/>
          <p:cNvPicPr/>
          <p:nvPr/>
        </p:nvPicPr>
        <p:blipFill>
          <a:blip r:embed="rId2"/>
          <a:stretch/>
        </p:blipFill>
        <p:spPr>
          <a:xfrm>
            <a:off x="1835280" y="620640"/>
            <a:ext cx="5329080" cy="64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ая соединительная линия 6"/>
          <p:cNvSpPr/>
          <p:nvPr/>
        </p:nvSpPr>
        <p:spPr>
          <a:xfrm>
            <a:off x="-252360" y="134136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7840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правовые акты Российской Федера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5" descr=""/>
          <p:cNvPicPr/>
          <p:nvPr/>
        </p:nvPicPr>
        <p:blipFill>
          <a:blip r:embed="rId2"/>
          <a:stretch/>
        </p:blipFill>
        <p:spPr>
          <a:xfrm>
            <a:off x="2738520" y="154080"/>
            <a:ext cx="3666960" cy="3524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ая соединительная линия 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рмативные прав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законы и иные нормативные правовы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ы органов государственной власти субъектов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ые ак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5.12.2008 N 273-ФЗ "О противодействии коррупции» устанавливает основные принципы противодейств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упции, правовые и организационн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предупреждения коррупции и борьбы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, минимизации и (или) ликвидации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й коррупцион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нару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209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упция: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их лиц либо незаконное предоставление так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ды указанном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у други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ми лиц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овершение деяний в пункте «а» от имен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тересах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юридического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5" descr=""/>
          <p:cNvPicPr/>
          <p:nvPr/>
        </p:nvPicPr>
        <p:blipFill>
          <a:blip r:embed="rId2"/>
          <a:stretch/>
        </p:blipFill>
        <p:spPr>
          <a:xfrm>
            <a:off x="2738520" y="154080"/>
            <a:ext cx="36669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209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действие корруп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 предупреждению коррупци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 выявлению, предупреждению, пресечению, раскрытию 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ю коррупцион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нарушений (борьба с коррупцией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о минимизации и (или) ликвид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й коррупционных правонарушений.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61" name="Объект 5" descr=""/>
          <p:cNvPicPr/>
          <p:nvPr/>
        </p:nvPicPr>
        <p:blipFill>
          <a:blip r:embed="rId2"/>
          <a:stretch/>
        </p:blipFill>
        <p:spPr>
          <a:xfrm>
            <a:off x="2738520" y="154080"/>
            <a:ext cx="3666960" cy="3524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ая соединительная линия 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0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ротиводействия корруп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65" name="Объект 5" descr=""/>
          <p:cNvPicPr/>
          <p:nvPr/>
        </p:nvPicPr>
        <p:blipFill>
          <a:blip r:embed="rId2"/>
          <a:stretch/>
        </p:blipFill>
        <p:spPr>
          <a:xfrm>
            <a:off x="2738520" y="154080"/>
            <a:ext cx="3666960" cy="352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изнание, обеспечение и защита основных прав и свобод человека и гражданина; 2) законность; 3) публичность и открытость деятельности государственных органов и органов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еотвратимость ответственности за совершение коррупционных правонарушений; 5) комплексное использование специальных 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х мер; 6) приоритетное применение мер п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ю корруп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сотрудничество государства с института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ого обществ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ми организациями 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ми л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840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физических лиц за коррупционные право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5" descr=""/>
          <p:cNvPicPr/>
          <p:nvPr/>
        </p:nvPicPr>
        <p:blipFill>
          <a:blip r:embed="rId2"/>
          <a:stretch/>
        </p:blipFill>
        <p:spPr>
          <a:xfrm>
            <a:off x="2738520" y="154080"/>
            <a:ext cx="3666960" cy="3524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ая соединительная линия 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раждане Российской Федерации, иностранные граждане и лица без гражданства за совершение коррупционных правонарушений несут уголовную, административную, гражданско-правовую и дисциплинарную ответственность в соответствии с законодательств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изическое лицо, совершившее коррупционное правонарушение, по решению суда может быть лишено в соответствии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м РФ права занима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ые дол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84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или заниматься определенной дея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47 Уголовный кодекс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или заниматься определенной деятельностью состоит в запрещении занимать должности на государственной службе, в органах местного самоуправления либо заниматься определенной профессиональной или иной деятель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или занимать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ой деятельностью устанавливае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ок от одного года до пяти лет в качеств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вида наказания и на срок от шес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ев до трех лет в качестве дополнительног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 наказ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76" name="Объект 5" descr=""/>
          <p:cNvPicPr/>
          <p:nvPr/>
        </p:nvPicPr>
        <p:blipFill>
          <a:blip r:embed="rId2"/>
          <a:stretch/>
        </p:blipFill>
        <p:spPr>
          <a:xfrm>
            <a:off x="2738520" y="154080"/>
            <a:ext cx="3666960" cy="3524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840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физических лиц за коррупционные право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80" name="Объект 5" descr=""/>
          <p:cNvPicPr/>
          <p:nvPr/>
        </p:nvPicPr>
        <p:blipFill>
          <a:blip r:embed="rId2"/>
          <a:stretch/>
        </p:blipFill>
        <p:spPr>
          <a:xfrm>
            <a:off x="2738520" y="154080"/>
            <a:ext cx="3666960" cy="3524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ая соединительная линия 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статье 192 ТК РФ к дисциплинарным взысканиям, в частности, относится увольнение работника по основаниям, предусмотренным пунктами 5, 6, 9 или 10 части первой статьи 81, пунктом 1 статьи 336, а также пунктами 7 или 7.1 части первой статьи 81 ТК РФ в случаях, когда виновные действия, дающие основания для утраты доверия, совершены работником по месту работы и в связи с исполнением им трудовых обязан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840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физических лиц за коррупционные право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547560" cy="660240"/>
          </a:xfrm>
          <a:prstGeom prst="rect">
            <a:avLst/>
          </a:prstGeom>
          <a:ln w="0">
            <a:noFill/>
          </a:ln>
        </p:spPr>
      </p:pic>
      <p:pic>
        <p:nvPicPr>
          <p:cNvPr id="85" name="Объект 5" descr=""/>
          <p:cNvPicPr/>
          <p:nvPr/>
        </p:nvPicPr>
        <p:blipFill>
          <a:blip r:embed="rId2"/>
          <a:stretch/>
        </p:blipFill>
        <p:spPr>
          <a:xfrm>
            <a:off x="2738520" y="154080"/>
            <a:ext cx="3666960" cy="352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ая соединительная линия 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договор может быть расторгнут работодателем, в том числе в следующих случа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го грубого нарушения работником трудовых обязанностей, выразившегося в разглашении охраняемой законом тайны (государственной, коммерческой и иной), ставшей известной работнику в связи с исполнением им трудовых обязанностей, в том числе разглашении персональных данных другого работн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ункт «в» пункта 6 части 1 статьи 81 Т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</dc:description>
  <dc:language>en-US</dc:language>
  <cp:lastModifiedBy>istomina</cp:lastModifiedBy>
  <dcterms:modified xsi:type="dcterms:W3CDTF">2014-05-16T05:55:26Z</dcterms:modified>
  <cp:revision>331</cp:revision>
  <dc:subject/>
  <dc:title>Blue Water Flow</dc:title>
</cp:coreProperties>
</file>